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3F4-D1CE-45CB-AF24-41D1A02B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EA8-80B8-49E8-BE5E-F5450C6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9C1-BFB3-49DF-9B26-151F0987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750-FF17-450E-8C9B-730C2E16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106-D9F4-47B2-ABA3-D1996E7C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85C-FA58-42DB-83DB-C20D188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9F7-8093-4892-9830-9A08FA34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A87-39B8-4908-B7C6-4AB6CD61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A3B-4508-45B0-A51D-6F0972FF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6A1-74D0-4626-B46E-4208EE9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A91-16D6-454E-8DE5-A8CCD11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D81-108E-401E-B737-30AD750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6ACA-3E36-45D8-9AC8-19147B57B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aker College</cp:lastModifiedBy>
  <dcterms:modified xsi:type="dcterms:W3CDTF">2013-04-19T00:53:16Z</dcterms:modified>
  <cp:revision>7</cp:revision>
  <dc:subject/>
  <dc:title>Instructional Objectives</dc:title>
</cp:coreProperties>
</file>